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940D-DBB1-41BD-8925-486528EE0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B324-FE45-4D1C-916B-861243F92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71B0-B831-478E-B6A6-A6465BA22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AF73-2F81-479B-A361-B4D8E6AD8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7982-9B2C-4E75-ACB6-5C896AB66E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3FBB-C7E4-47AC-B383-65F270952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A90B-BF51-43DD-AA36-964DE1B34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3FFF-1E62-435B-A003-3CF668971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9AEE-6D5C-4D4A-BFE9-705C0A0A7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2B04-D989-40F1-96D9-C73339013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1FB6-1D63-4869-A783-9C8163310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9D87-8C7D-40D8-B9BB-3F007E5CB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0CB08A3-A01A-4EFA-9F3C-F8E5CB6E17A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331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5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y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12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12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0 X 0,5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9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1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1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7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8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9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11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12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.00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.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5.0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.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.000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.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5.000 X 0,1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5.000 X 0,1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4-22T06:17:08Z</dcterms:modified>
  <cp:revision>2</cp:revision>
  <dc:subject/>
  <dc:title/>
</cp:coreProperties>
</file>